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D1A-F773-43A6-B82B-F533AE59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8041-FD28-4BF6-973E-C48EC05A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25BF-25D3-49CF-B241-9EDBDEE0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255-C313-4678-BF68-4FC02E92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7AF4-D08A-449B-B60A-61555989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E4FA-939A-4707-AD07-D865FA8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AF0-B187-419F-9636-5CB33ECF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9C7C-8A1D-40C2-909F-48159DA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71C8-3ECF-4254-BD47-7E019A596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74E8-8937-4B4F-B907-579B589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A1C6-ACEE-4F3D-A7E2-95F98F2A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165B-B63E-44BF-9E55-83A8ABD5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691D-B272-49C2-B284-3D8AB3C097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gse.org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guenther@berwicksd.org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. Governor’s Schools of Excell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residential program to challenge &amp; enrich the artistic or academically talen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0, 11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ong interest, achievement, relevant activities, 5 weeks away from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www.pgs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– avail. Oct 1; deadlines v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or’s Sch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440" y="251424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ricultural Sci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r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lobal Entrepreneurshi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7960" y="2514600"/>
            <a:ext cx="3809880" cy="28195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formation, Society &amp; Technolog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national Stud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i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8380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 Schools – conducted in different regions of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685800" y="5562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e – discontinued in summer 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AP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 (6)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imes New Roman"/>
                <a:hlinkClick r:id="rId1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bhsgifted.wikipag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Mentoring (M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724280" y="1905120"/>
            <a:ext cx="3962520" cy="56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 Governor’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chools of Excell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09, 2010 and 2011 only.  Freshman have new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ir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Areas of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ldren’s Museum Bloomsburg (I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udicial Law Mentoring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ary/Middle/High School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grap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etry/Short Story Collection (IS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Men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- Sept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in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09-04-13T14:09:59Z</dcterms:modified>
  <cp:revision>19</cp:revision>
  <dc:subject/>
  <dc:title>Berwick Area High School</dc:title>
</cp:coreProperties>
</file>